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6CB-EDEA-4B4F-9611-8E6F2805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923-BFD8-4436-BB85-E727A9CE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412-5806-4715-BAE6-DC8D09BA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CCF-90CA-4AF7-B344-01DB26FF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7B44-C07E-4C21-A0EF-2F837455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4F8C-192D-4B6A-93F3-FB0B629C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7EF9-250F-45F8-80DA-875FFF98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4F0A-37BA-45AA-9E3B-4882DF3E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AE9D-110B-4C87-8F2A-EA51C91D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0C22-E708-4858-98E1-089F59F4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BB67-9760-4AA1-BA86-B580D9D6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D15-DD35-40D8-AC6E-BAD5A7FA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28F0-C92F-42F9-B9FE-8D996F6D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3177-BD06-46E3-8587-439F382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15EC-C4A1-43BC-8C13-485CF89B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92E9-E5AB-4414-A5E0-2D43FBF4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EE87-663D-4ED6-9125-65836CB9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EF4-6B5A-41EE-B056-C067AA70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F54-5A4D-44B6-A140-AA5DF163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B51-7DA7-4C3B-A3C5-E249C3D6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388-D132-43B0-9BE2-36FB23BA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C1B-3467-4B7E-A16C-612A11BA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F21-8292-4544-8A72-D1CCDE57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85C-D6D6-403F-9310-59B6F458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C9DA-F404-4434-A8A0-5FDC002ED2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FB8C-3FB4-4F02-8114-1A1D5DCB6A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ing a Vision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cilitating meet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cision-ma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ing Crea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blem-sol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esenting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mpowering ot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sitive Reinforc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3:15:45Z</dcterms:created>
  <dc:creator>James Barnicle</dc:creator>
  <dc:description/>
  <dc:language>en-US</dc:language>
  <cp:lastModifiedBy>James Barnicle</cp:lastModifiedBy>
  <dcterms:modified xsi:type="dcterms:W3CDTF">2010-02-19T03:21:56Z</dcterms:modified>
  <cp:revision>1</cp:revision>
  <dc:subject/>
  <dc:title>Being a Visionary</dc:title>
</cp:coreProperties>
</file>